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295246"/>
        <c:axId val="72452260"/>
      </c:barChart>
      <c:catAx>
        <c:axId val="422952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52260"/>
        <c:crosses val="autoZero"/>
        <c:auto val="1"/>
        <c:lblAlgn val="ctr"/>
        <c:lblOffset val="100"/>
        <c:noMultiLvlLbl val="0"/>
      </c:catAx>
      <c:valAx>
        <c:axId val="724522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952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B5D6-425F-4DB4-B737-2F1DE28B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59A0-8344-4539-9C7B-F9356B11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F94-3B91-4A06-8112-46C541E9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AA5F-C8B0-4FA8-A7E6-3B38FC48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2128-6202-4169-8646-D031CE2E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60AF-E74E-4CC4-AD9A-2DD6A34D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B706-AE81-47C3-ADD5-DBAE432D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687-8689-4DF0-B7E9-E37DB683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2777-CF5E-4153-81EC-42E374D8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B5A0-B10B-43FC-86DB-521F5037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131C-A23E-4007-93B2-008EF902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F00-49B8-40B2-8EFE-F6C1272B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6E92A-1646-4236-82AC-1E67D3188A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