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48550"/>
        <c:axId val="53381118"/>
      </c:barChart>
      <c:catAx>
        <c:axId val="75448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81118"/>
        <c:crosses val="autoZero"/>
        <c:auto val="1"/>
        <c:lblAlgn val="ctr"/>
        <c:lblOffset val="100"/>
        <c:noMultiLvlLbl val="0"/>
      </c:catAx>
      <c:valAx>
        <c:axId val="53381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48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DF5-CEC0-410F-AD7D-C01E8F5C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904-5BB8-4715-9445-A927B11B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CA3-3A39-4ADE-A4F9-68B27600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3BC-21A4-4544-BBBB-BDCB97F3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F87-82BA-45D6-B99D-74AF7B17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0AA-1CF0-426B-8E58-86A6497B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E31-070C-4D39-B1C4-B3BE9797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427-B2BA-4B0E-BDFB-977359C3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E9F-D3C2-4562-80CB-A1A73799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649-6224-449A-8BC8-8C9E575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8DE-FE06-422F-965E-E67877A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3E6-7E16-47F4-B1A6-FDFC1A2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6DF6A-90FC-41EF-B8FA-DE9CB47732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