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61019"/>
        <c:axId val="68794717"/>
      </c:barChart>
      <c:catAx>
        <c:axId val="91461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94717"/>
        <c:crosses val="autoZero"/>
        <c:auto val="1"/>
        <c:lblAlgn val="ctr"/>
        <c:lblOffset val="100"/>
        <c:noMultiLvlLbl val="0"/>
      </c:catAx>
      <c:valAx>
        <c:axId val="68794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61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FE7-2022-434F-99FD-4B64CB55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8FA-4E0D-48AD-AB87-33519C2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F70-DADE-4FCD-BD5B-B02C49B7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B10-E4DD-4C0F-BA95-5CC724C8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234-7539-4BFF-923C-E3C94636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6D2-C4FB-46AC-BC0D-29DD14E4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71F-CCFE-43CD-A791-6ACF9E8B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08C-06D0-4799-BF02-C8A9F53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DE0-F4BB-4A1C-9F7E-D0F6F1A1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C6E-231F-4F6A-ACCF-5AF8D7F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8B9-0FED-481E-9956-436DDA24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493-2870-4323-AB88-074C3F0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EA7B-648D-4956-A563-1BF76C2770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