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13713"/>
        <c:axId val="92182875"/>
      </c:barChart>
      <c:catAx>
        <c:axId val="77113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82875"/>
        <c:crosses val="autoZero"/>
        <c:auto val="1"/>
        <c:lblAlgn val="ctr"/>
        <c:lblOffset val="100"/>
        <c:noMultiLvlLbl val="0"/>
      </c:catAx>
      <c:valAx>
        <c:axId val="92182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13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236-3669-4507-B29A-66C7C3C6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B3D-915C-415B-A089-2A93642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F86-06DC-49A0-AE9F-917DDB39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407-D5C5-4943-9EBA-A6C3AD3C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7D9-9635-4541-AC95-B891B57D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F36-C2F1-428D-9D32-6061B6AC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E42-E59B-4857-8BC7-3A0A757A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D9D-91CC-4E0C-9640-F637DFC6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9D7-0D7C-4224-9DEE-11F4C331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BED-1729-47EC-9F97-55549D52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F83-F9D7-4F63-9465-5F58B2B1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CDC-66EE-4157-8D49-32A8D311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C1E4C-7742-42CF-A4BF-1C9DBFC842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