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19835"/>
        <c:axId val="53282554"/>
      </c:barChart>
      <c:catAx>
        <c:axId val="76719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2554"/>
        <c:crosses val="autoZero"/>
        <c:auto val="1"/>
        <c:lblAlgn val="ctr"/>
        <c:lblOffset val="100"/>
        <c:noMultiLvlLbl val="0"/>
      </c:catAx>
      <c:valAx>
        <c:axId val="53282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19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5AD-767C-4BB1-A0BD-31B0DE66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6BF-A4CF-4523-A2AB-127EA446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AE1-22B3-42C5-A53F-271215B3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25-530B-40B5-B4F5-EB550332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A1A-A091-4616-BF2D-106248A3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137-38B4-4625-87CF-19B4A85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AF5-5DC9-479D-8CDE-AF4F84C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D57-FA9F-4279-968A-0EFEFAEF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C2E-3099-41BB-BE29-CC4BF429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F5E-67C4-4863-BF36-4244292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BCD-EF10-4A58-AFA3-EC42034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685-C122-4408-8F88-03AD154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9C144-AEE9-40CD-9835-7E741423F1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