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69761"/>
        <c:axId val="13602135"/>
      </c:barChart>
      <c:catAx>
        <c:axId val="70169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02135"/>
        <c:crosses val="autoZero"/>
        <c:auto val="1"/>
        <c:lblAlgn val="ctr"/>
        <c:lblOffset val="100"/>
        <c:noMultiLvlLbl val="0"/>
      </c:catAx>
      <c:valAx>
        <c:axId val="13602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69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F94-6C15-48B8-BF05-803752B9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E2C-0A17-4E69-976E-4CC92EA5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906-48FF-41D1-8640-FA6AF637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505-0AFA-4061-B509-E9D88387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1CD-FBA9-4BF0-8D2F-43036FD6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D3C-7000-4A3E-9AA6-2A34E12E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007-3729-4B0A-A7FC-C790B1A1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FB7-6017-44D6-992E-337E46BC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D0F-8320-48FC-B133-341C28E7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692-5EE4-4CDD-AA2B-8682523F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5A6-549B-4C25-A5F4-E1E802F4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8E5-5831-4488-B7ED-04C342F9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71EA7-3F39-452F-AFDD-94A3782D5A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