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36065"/>
        <c:axId val="20615705"/>
      </c:barChart>
      <c:catAx>
        <c:axId val="29736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15705"/>
        <c:crosses val="autoZero"/>
        <c:auto val="1"/>
        <c:lblAlgn val="ctr"/>
        <c:lblOffset val="100"/>
        <c:noMultiLvlLbl val="0"/>
      </c:catAx>
      <c:valAx>
        <c:axId val="20615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36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DEF-926E-4DC9-9A93-D820136B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FD0-AAF3-48F7-83FB-A0454E4F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9D7-A656-4589-A78F-408D27D3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320-BEA8-4185-83C5-58EBCB8F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6DC-56DE-4BE9-81F7-CAD7D8B1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77F-C024-4C91-9850-33EB724C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804-60C0-48F9-8313-E3AEB2FD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212-7C20-4055-AF0C-7C3A384A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2F2-7850-4217-B4C7-446DD5E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141-1F5A-49CC-8003-CC7376DE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E75-9660-4860-9FED-71B4F1E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4F9-4711-41DC-8047-5BA002C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7AE27-84E5-4B38-BD72-222D7CB542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