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91306"/>
        <c:axId val="42297616"/>
      </c:barChart>
      <c:catAx>
        <c:axId val="83691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97616"/>
        <c:crosses val="autoZero"/>
        <c:auto val="1"/>
        <c:lblAlgn val="ctr"/>
        <c:lblOffset val="100"/>
        <c:noMultiLvlLbl val="0"/>
      </c:catAx>
      <c:valAx>
        <c:axId val="42297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91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338-F72D-4119-AE3E-1D67E40B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49F-A632-4131-B9FC-306A8CD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84E-BC85-4B33-AAC8-5DB8538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FD0-9FC1-48A4-BFD4-C0BB7BF7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3AD-59E2-4001-9D46-E00D930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A63-2592-4DC2-BF61-A1DCF2F0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5BD-E6FC-426D-B56A-125F2F46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4D3-0B3C-49B5-8711-1D5E68DB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50A-A0BD-487D-9E17-8FE842D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D3F-521C-49F1-BE35-9C67A04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442-1B2B-41D6-99F2-B03E811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83B-7E7B-4449-95AE-310472F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1AA9A-1E04-48E6-B592-2D37895D07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