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48643"/>
        <c:axId val="77796872"/>
      </c:barChart>
      <c:catAx>
        <c:axId val="59548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96872"/>
        <c:crosses val="autoZero"/>
        <c:auto val="1"/>
        <c:lblAlgn val="ctr"/>
        <c:lblOffset val="100"/>
        <c:noMultiLvlLbl val="0"/>
      </c:catAx>
      <c:valAx>
        <c:axId val="77796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48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85-1B2A-4179-8D47-05A88A91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382-C061-4A80-86CB-B38E4A88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1E0-776D-401E-A23F-E39C5700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C9B-EFF4-40FB-8D79-1BBCAC21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A6A-9AD3-4FC9-B24A-BCC371B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EAF-3517-45D1-98DF-551F75C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CDF-7EEE-4AA8-9E9B-86347CD7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9BC-93B3-4A70-B0C6-C5918B3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64F-F71F-44F7-8FB1-99000F2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A6C-429F-4683-9788-C8BBCE0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284-D4D3-468B-BD9E-85960A7A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2D9-EE00-4BF7-A78C-DACF95C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F8AA5-7EF0-451F-9A20-C658297CF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