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54504"/>
        <c:axId val="66768343"/>
      </c:barChart>
      <c:catAx>
        <c:axId val="83554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8343"/>
        <c:crosses val="autoZero"/>
        <c:auto val="1"/>
        <c:lblAlgn val="ctr"/>
        <c:lblOffset val="100"/>
        <c:noMultiLvlLbl val="0"/>
      </c:catAx>
      <c:valAx>
        <c:axId val="66768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54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8A1-4D69-44CA-A765-BAE578A2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5FF-A170-405A-A06A-BDC8630B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C30-B3D5-436F-BB16-BC3AEEBA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694-E542-4E65-8759-4BA9BB25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9CF-C0C4-4CF6-B2E5-64C49620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0E3-A631-45F9-99AD-BE1F8B1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B93-2D47-42D8-9D0C-3859AE03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404-EA91-4474-9A53-4CACB11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DBA-2227-4572-851C-70A1502E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672-A480-4E18-B686-D5CAEDC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773-8C15-47D8-A627-399B32F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E81-7242-4289-ABDF-4204833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8D255-7572-4104-B9EA-2C81BDB6F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