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97749"/>
        <c:axId val="44249657"/>
      </c:barChart>
      <c:catAx>
        <c:axId val="670977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49657"/>
        <c:crosses val="autoZero"/>
        <c:auto val="1"/>
        <c:lblAlgn val="ctr"/>
        <c:lblOffset val="100"/>
        <c:noMultiLvlLbl val="0"/>
      </c:catAx>
      <c:valAx>
        <c:axId val="442496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977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849-A69C-427C-A352-A5FEFB19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8C3F-D5C3-466B-89A5-4EB412D4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E44-F86C-4C4B-8725-FCC02E58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023-2A0D-47F7-93D0-E7907A03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16C-283C-4BA7-A1B5-716F8425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170-428E-4D4F-9B0C-09DC825C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9AE-9D2B-4107-933C-9240AFFA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3B1-0B7E-40DC-B183-17F397F7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47D-1A2B-40C8-A4B9-C39A0DAC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0B0-61E9-44CF-AAF5-5A912AD0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DDD-2E44-4592-B54F-21470610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E2E-4546-40F5-8AA6-74DE4EC2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B262B-F498-48D5-8664-7BF64FF4AE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