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86510"/>
        <c:axId val="59055556"/>
      </c:barChart>
      <c:catAx>
        <c:axId val="80786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55556"/>
        <c:crosses val="autoZero"/>
        <c:auto val="1"/>
        <c:lblAlgn val="ctr"/>
        <c:lblOffset val="100"/>
        <c:noMultiLvlLbl val="0"/>
      </c:catAx>
      <c:valAx>
        <c:axId val="59055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86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5E6-D624-490A-9184-5891D218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B29-BFF1-4E48-906D-3865A28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ECA-7575-4C29-AA1D-AF5C26AB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0BD-B8BE-4A4D-BD33-EC13962B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8D2-D4D5-4216-B02D-B539B01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47D-C846-4EDE-B5DF-1518BB54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711-CD3D-4035-A737-674C05CD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C35-11D4-409D-ACFB-005F2B63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665-CD5F-4FB7-A4F4-7DC66DEF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10D-29C2-48FF-B7C5-3F11E2A8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5E3-051D-4B3A-982F-26DD312D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20E-39BB-49E9-B5F1-C42BE14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9F6DA-7D71-490B-8E15-F7064FBDC7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