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555520"/>
        <c:axId val="10741006"/>
      </c:barChart>
      <c:catAx>
        <c:axId val="275555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741006"/>
        <c:crosses val="autoZero"/>
        <c:auto val="1"/>
        <c:lblAlgn val="ctr"/>
        <c:lblOffset val="100"/>
        <c:noMultiLvlLbl val="0"/>
      </c:catAx>
      <c:valAx>
        <c:axId val="107410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5555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A56F-7168-40AF-A50B-4D02608BF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741C-5890-4502-911D-8A0406FA2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5374-D7A0-4ED4-8923-972A7E7B0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9C30-3567-41AD-A5A4-C7536AC9A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35B6-4882-4D58-9D3C-E6018EBA3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3512-48AF-48A4-B670-BA44586F0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8D2A-3892-4358-8909-A82B35D11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46FD-0032-4C8D-ACA3-0B42A1961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6443-6845-4BD0-BA31-41130A807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0AA0-DFD4-4D06-BB5C-A4B15C32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6C3F-B106-42F6-94FF-FB802BEF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3EC7-0F45-486B-8734-1ECE0F62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C3243C-5900-4E56-A1BB-22D46268055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