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35194"/>
        <c:axId val="45679982"/>
      </c:barChart>
      <c:catAx>
        <c:axId val="72351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79982"/>
        <c:crosses val="autoZero"/>
        <c:auto val="1"/>
        <c:lblAlgn val="ctr"/>
        <c:lblOffset val="100"/>
        <c:noMultiLvlLbl val="0"/>
      </c:catAx>
      <c:valAx>
        <c:axId val="456799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51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C2A-DDC2-4D2D-9152-D8E8964D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B80-E231-41C8-AAF5-73748AAE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783-999C-4A23-8D77-90A62169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7BD-1EE4-454A-9EF2-E3A2A1DE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94F-23F6-45BF-8270-FC06A76C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AAA-8D55-4DA8-8BF2-3B447BFC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0A54-8D4D-4E6F-AE15-6DC08CB8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701-DEFD-43EF-8274-DFE2778C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CA6-25AA-4201-A956-50134EEE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E928-DE5A-4BBE-9E0F-EFF4DD7C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B553-19B7-431C-AA63-EEA24B3F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61C-BA40-4F0C-9581-CFA091DC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AA8BC-2C8E-4135-ACC0-F13418B544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