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98432"/>
        <c:axId val="36543063"/>
      </c:barChart>
      <c:catAx>
        <c:axId val="93984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43063"/>
        <c:crosses val="autoZero"/>
        <c:auto val="1"/>
        <c:lblAlgn val="ctr"/>
        <c:lblOffset val="100"/>
        <c:noMultiLvlLbl val="0"/>
      </c:catAx>
      <c:valAx>
        <c:axId val="365430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984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3E51-038E-4170-BCFB-60436C08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D93F-EE19-443E-B656-D4256070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D2D-506D-48C1-B458-7F14D4A38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0E05-A374-4D05-BFF2-F5ECD136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2FD2-8B7E-4F53-92D9-A9C774F3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1FA0-3B1C-4026-AEAF-40E67F60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3F30-97D4-4A1F-927E-D307E6F2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6E93-BF8F-4B0F-8A1C-61A210D4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F11-6905-4FC0-82C8-609D15DA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233E-6DBA-4107-8193-8F1CC4BE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E0E6-60DE-43E9-A89F-BBC44401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FC0E-8D6F-4D4D-A77A-FE187C5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AC430-ED9B-4AF2-90EE-AB2C71F93E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