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038308"/>
        <c:axId val="65997914"/>
      </c:barChart>
      <c:catAx>
        <c:axId val="290383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997914"/>
        <c:crosses val="autoZero"/>
        <c:auto val="1"/>
        <c:lblAlgn val="ctr"/>
        <c:lblOffset val="100"/>
        <c:noMultiLvlLbl val="0"/>
      </c:catAx>
      <c:valAx>
        <c:axId val="659979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383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E6DA-5BA5-4072-9724-A6D721B3F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1072-8F48-43A2-B0A0-0F85F342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611D-5E08-4969-992F-442DAFCF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8B08-A5A8-4EAD-8783-5680E4F6C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47CF-A9F4-496B-8742-F99AAFDA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16D-BBF3-4210-8988-04F9BE2B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D0E0-780E-4306-998A-D540D6EAB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5001-8EB3-4192-B0BA-1808AFF8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A196-49F1-4B74-93A8-5134EF5D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80AC-C0B0-4CD6-875A-96B618FE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11EA-7426-4861-A5C4-7546CBE3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F036-4D84-467A-98EF-D9046671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23FDF-875F-452B-8261-1C3D772783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