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204406"/>
        <c:axId val="48460908"/>
      </c:barChart>
      <c:catAx>
        <c:axId val="362044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460908"/>
        <c:crosses val="autoZero"/>
        <c:auto val="1"/>
        <c:lblAlgn val="ctr"/>
        <c:lblOffset val="100"/>
        <c:noMultiLvlLbl val="0"/>
      </c:catAx>
      <c:valAx>
        <c:axId val="484609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2044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72C8-6789-4E2F-A5A4-1ECEE997D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3FB1-2812-4ADD-9E85-1D5F9CDDB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1C21-E07F-445D-BAE6-CD71718DE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7EB3-54F2-4654-88BA-C45C21E74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90B9-5D58-46D2-B4F3-9D9CB7CBB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3070-81DC-41FB-BEDC-5DCE00BF7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AEFF-2E29-42E9-9DB1-E7991511F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878B-1B00-4991-93C2-9BBD33206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021F-2D00-46C2-A8F4-ADCFC8056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F13F-F480-4147-B8EA-7459F580D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60E6-9349-4F99-B243-298A132D9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6F34-8909-463D-8C22-59AEB1DF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3AC4F3-86C2-44AB-9CE0-716E47512B9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