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166775"/>
        <c:axId val="18194935"/>
      </c:barChart>
      <c:catAx>
        <c:axId val="561667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194935"/>
        <c:crosses val="autoZero"/>
        <c:auto val="1"/>
        <c:lblAlgn val="ctr"/>
        <c:lblOffset val="100"/>
        <c:noMultiLvlLbl val="0"/>
      </c:catAx>
      <c:valAx>
        <c:axId val="181949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1667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918F-4F44-4988-8670-7FED50CCE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E475-0631-4230-9A2A-DD67A3672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48AE-C5BE-4F45-8772-76D7E3D8A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E2DA-A63E-4B9E-B2A0-77684D636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75CB-FBE1-40E5-9FF1-38A7ABAB1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2F72-9CA7-4277-A106-288CFB39B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D81E-2DB1-4D0C-99C5-6CC354B5E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3A19-E8D5-4959-85A2-49D6CCFB9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65C8-2493-454F-B30F-3D2567E5E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DFB8-4D26-49E1-98E9-4DD0EBC2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BD3D-9BA1-4C4D-A41B-7059580C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D4FD-ACAE-4A46-A3A3-B73BF0DE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918D05-4242-4056-8597-EB0281D150A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