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703660"/>
        <c:axId val="58372403"/>
      </c:barChart>
      <c:catAx>
        <c:axId val="227036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72403"/>
        <c:crosses val="autoZero"/>
        <c:auto val="1"/>
        <c:lblAlgn val="ctr"/>
        <c:lblOffset val="100"/>
        <c:noMultiLvlLbl val="0"/>
      </c:catAx>
      <c:valAx>
        <c:axId val="583724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036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18F5-D4B7-4353-9FAC-BA058861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243F-E1FE-492B-9C28-64B8BEB2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79CA-DCA1-470A-BEFD-C6939EE3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4372-C053-4230-96FA-D149D5FD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9592-9EFB-4901-ABA9-9C4D8A8B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31B5-1322-41CE-BBD9-7D72D0C0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A186-88DE-45FA-B833-E6A6535C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1C79-2215-4232-B2F3-6BC43EE4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0963-BDCC-4A1C-A7BF-4CC6928D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F044-46F6-47FF-9C95-F59CB6DC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AAA6-A68C-4151-A99D-F0A020C4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4070-F835-4372-AEB9-97D4BADC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AA79A-16E8-48CA-BFAE-93393E6E62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