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58058"/>
        <c:axId val="20094488"/>
      </c:barChart>
      <c:catAx>
        <c:axId val="91258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94488"/>
        <c:crosses val="autoZero"/>
        <c:auto val="1"/>
        <c:lblAlgn val="ctr"/>
        <c:lblOffset val="100"/>
        <c:noMultiLvlLbl val="0"/>
      </c:catAx>
      <c:valAx>
        <c:axId val="20094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8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02C-A6CD-42D3-A357-3E9C3FBB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B74-EED3-43FB-B41E-783810D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179-C6CB-4D2B-8990-2101EA0C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862-E8E5-4688-9E84-F7F45CE6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128-BE1B-4182-AF22-345FD4B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B5C-CB57-4CA6-9D41-79FF4E9B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FC6-9439-4195-B2BD-7F3127D4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20A-AC11-4513-BBF4-897F5E6F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E87-184A-4713-A4C4-2F4CB7F4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A74-707B-46EC-8332-A9D1C93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970-3834-4F02-A770-B5B47483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C86-E614-4D52-95FF-198089D3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6CF82-3C6F-40BC-B946-A05F6A6F73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