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29323"/>
        <c:axId val="43283403"/>
      </c:barChart>
      <c:catAx>
        <c:axId val="65029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83403"/>
        <c:crosses val="autoZero"/>
        <c:auto val="1"/>
        <c:lblAlgn val="ctr"/>
        <c:lblOffset val="100"/>
        <c:noMultiLvlLbl val="0"/>
      </c:catAx>
      <c:valAx>
        <c:axId val="43283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29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59D-3113-4EB5-9BC2-2A049335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1C8-C448-4C18-8FC0-C5B71E88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FB0-4B1B-40E0-8A36-AFBC862D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A1F-C0BF-49E4-A01A-E904D903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D14-86F0-46B4-A794-3437C79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6E3-085A-4A11-A8F0-4F1AE1ED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3D5-CE52-4AE3-A7DE-CCC67AF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F24-52C2-4590-83AC-4CE9430E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3A0-C026-4661-A6AB-BF1409A7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529-89C8-4AF5-819A-2C89E8A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E82-0FC7-4B94-852D-08CED1A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3A6-3CC6-48D7-B7D6-1FDB5B20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60127-7B87-488A-9F66-2CD55616A1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