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584868"/>
        <c:axId val="64244367"/>
      </c:barChart>
      <c:catAx>
        <c:axId val="295848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44367"/>
        <c:crosses val="autoZero"/>
        <c:auto val="1"/>
        <c:lblAlgn val="ctr"/>
        <c:lblOffset val="100"/>
        <c:noMultiLvlLbl val="0"/>
      </c:catAx>
      <c:valAx>
        <c:axId val="642443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848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5699-480E-455F-AB46-B2C59DA1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45FF-CB9A-47C0-AFAD-562E6D21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1C18-AC19-42AF-823C-4895A448D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4721-A283-462B-864B-32F26458C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4B5A-8D59-47AA-9CA0-223AA2B2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9AAD-E2E6-49EE-B0A2-7F3F5345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AF15-FFDE-4039-B739-A6016760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2A8A-8F66-4CFE-B84D-D938F73A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41EE-BEE0-457B-8866-8CBA08CA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15AC-6B94-4951-9AC5-BEAFF473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5F46-F8FD-4FEC-97EF-83E10F9E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E2B7-5A48-4833-91F6-C4BE51F4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B2DB9-3F47-4BAA-A395-63A89B1F18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