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9114496"/>
        <c:axId val="41185406"/>
      </c:barChart>
      <c:catAx>
        <c:axId val="7911449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185406"/>
        <c:crosses val="autoZero"/>
        <c:auto val="1"/>
        <c:lblAlgn val="ctr"/>
        <c:lblOffset val="100"/>
        <c:noMultiLvlLbl val="0"/>
      </c:catAx>
      <c:valAx>
        <c:axId val="4118540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11449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C0D6-526C-47A6-8378-53925D9E9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4139-B3E7-49A1-BF51-E0CD273F4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0B4A-5ACD-4EFB-AA38-DE1BEC921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234A-3E6B-4B21-AAEB-BB7D1EB7B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1FA8-C3F5-4114-92F0-F5BF2753D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AC18-CA89-4593-B4C2-D533CB161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941C-48E9-46FB-8ADD-644CE6F72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6AD8-5D55-40CD-A6AF-9E7CE2DBC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AEFB-7062-45DE-A28C-4134D0F17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3C3C-703B-4E0A-A584-7B9BC062B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C725-5C3C-4D8E-88D7-D13136CB6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C13F-EB48-4DAC-A33B-61D7C70CF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ABA01E-EF2D-4314-A3E7-BD7B0BA6807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