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35806"/>
        <c:axId val="30261365"/>
      </c:barChart>
      <c:catAx>
        <c:axId val="87435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61365"/>
        <c:crosses val="autoZero"/>
        <c:auto val="1"/>
        <c:lblAlgn val="ctr"/>
        <c:lblOffset val="100"/>
        <c:noMultiLvlLbl val="0"/>
      </c:catAx>
      <c:valAx>
        <c:axId val="302613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35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FFE4-0AB3-4302-A8CA-86555744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97B-F985-48F4-A1ED-8C609DC8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E0E-E3FF-4386-B868-92E576A3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192-8212-4B3F-A7DE-4771E4DD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B0D-69D0-43BB-A85F-1A553491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8209-64FE-46D7-A69E-8EE8A6CC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C2B5-EB7F-4D81-B96A-407FBBCC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FA8C-6740-4482-BD89-C714C069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B56B-F1EE-4217-9058-A97FCAC8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2BD3-F917-460B-9E01-EFAA56B6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0BD0-5885-4093-8322-179EBAB0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8943-76C3-47B7-9B1E-E6A0928D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74CE8-F446-40AE-BF7F-E3543A2EB2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