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8253"/>
        <c:axId val="25509696"/>
      </c:barChart>
      <c:catAx>
        <c:axId val="6558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09696"/>
        <c:crosses val="autoZero"/>
        <c:auto val="1"/>
        <c:lblAlgn val="ctr"/>
        <c:lblOffset val="100"/>
        <c:noMultiLvlLbl val="0"/>
      </c:catAx>
      <c:valAx>
        <c:axId val="25509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8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C06-C9C1-4CD6-BC74-EE5352A7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574-349D-4651-A9C1-8AB3A77C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C82-C078-432D-8627-6FE4A73F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561-3971-490A-A012-13BFCB74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5B7-4495-4FEA-9DA1-E17FDB87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686-E873-46E6-864E-73BC3E61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E8F-7867-4013-9D98-15D2CBB7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9A5-76C9-4223-BFC0-F979BBD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395-DB99-4294-B241-E3E77164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2A5-050E-43F0-8B48-C61AD57F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4E0-46B3-40CE-86AF-505DEEB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833-BC4C-44E4-A452-0ECC67BF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98F48-711D-423B-BE4A-EFC73A6B40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