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69623"/>
        <c:axId val="14290965"/>
      </c:barChart>
      <c:catAx>
        <c:axId val="37169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90965"/>
        <c:crosses val="autoZero"/>
        <c:auto val="1"/>
        <c:lblAlgn val="ctr"/>
        <c:lblOffset val="100"/>
        <c:noMultiLvlLbl val="0"/>
      </c:catAx>
      <c:valAx>
        <c:axId val="14290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9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78B-4609-46FA-9649-0A70EB7F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0C9-787C-41B3-B547-B2523442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C1B-9AD0-41A4-AE00-A68AC592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467-ADE8-4E49-8485-7E857B4A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DFF-B4F1-4A8D-A29F-728844D3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301-2535-49FC-B05C-5BB12625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F4F-F9B3-4085-92AF-5F088ABD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1F7-978D-4FEC-B0E6-A39FC65B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CFF-A13F-4649-8E89-DFB8598C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E6A-9C93-48F1-83E3-40A19E2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5F1-5997-4EF5-BE50-30A2FF1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4DB-2A94-4058-974F-BCD4E5B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1430D-FA73-44AB-98C4-F52857146E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