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19614"/>
        <c:axId val="2609799"/>
      </c:barChart>
      <c:catAx>
        <c:axId val="24419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9799"/>
        <c:crosses val="autoZero"/>
        <c:auto val="1"/>
        <c:lblAlgn val="ctr"/>
        <c:lblOffset val="100"/>
        <c:noMultiLvlLbl val="0"/>
      </c:catAx>
      <c:valAx>
        <c:axId val="2609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19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ABA-73BA-41B7-8012-12317887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6B3-68D3-4359-B862-491E3D78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008-0551-4E11-8CA5-E182A8DC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1A8-1279-4899-8FD5-3E0F3498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8C7-552E-451C-8DC5-2FE25386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296-CC94-474C-A041-68C34AA3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BDA-4FB1-45AE-BF42-41096FBA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58B-DCFA-482D-BF29-B15ED5DC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7A41-04B3-4814-9BF4-3B2287B8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9B7-5BAF-483A-809A-250BA941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06F5-45B8-48D4-B0C5-97C25FA7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30CD-739D-4AC0-83D1-F31E308C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DE491-915D-48C2-AEC1-4F0A45F780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