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5878"/>
        <c:axId val="82850415"/>
      </c:barChart>
      <c:catAx>
        <c:axId val="7845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50415"/>
        <c:crosses val="autoZero"/>
        <c:auto val="1"/>
        <c:lblAlgn val="ctr"/>
        <c:lblOffset val="100"/>
        <c:noMultiLvlLbl val="0"/>
      </c:catAx>
      <c:valAx>
        <c:axId val="82850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5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D21-6E34-41AD-96B8-E2104F61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633-2DDB-4DFF-AD64-037EFDF0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E02-082A-4AD2-8E84-6CBE3DFF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4B1-37D8-407C-89C7-FDEB87E2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5FB-D107-4275-B05B-A552678E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6C6-8ED3-457C-936B-61297957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54D-1368-44AB-B637-A30F69F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8CE-CED1-454B-A225-D59FCD99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D01-1F1F-4340-A65A-235EFFD2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79F-9054-4B2B-8A96-5E1DFBA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BE7-8490-4733-8D1F-40740060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0C1-94D5-4DD2-839A-58AAE750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4CE9F-D41E-4051-89C3-071CB55323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