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23572"/>
        <c:axId val="66561773"/>
      </c:barChart>
      <c:catAx>
        <c:axId val="92723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61773"/>
        <c:crosses val="autoZero"/>
        <c:auto val="1"/>
        <c:lblAlgn val="ctr"/>
        <c:lblOffset val="100"/>
        <c:noMultiLvlLbl val="0"/>
      </c:catAx>
      <c:valAx>
        <c:axId val="66561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23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58E-0688-407C-9044-32093104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F50-C8AC-4A19-B6CD-89B617C7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E5C-C7B7-4C4C-B8FF-58D738A4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A8C-A760-4746-83D4-B49131BF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EFF-6603-409C-A844-E6E1B535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4AA-C1E1-489A-83F8-94A599FD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451-D803-442E-B21A-B7419118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E79-FB99-40D9-A3A0-4E96C75C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824-E81D-49A2-84F0-5C1A845D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E88-90C6-40E2-AD9A-E1F73821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73E-B4E8-48FE-ABB0-A6ECFEE1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9D8-E075-443E-B330-A9F80B90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69125-8701-4197-987E-B09CA0DED7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