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6227"/>
        <c:axId val="94764013"/>
      </c:barChart>
      <c:catAx>
        <c:axId val="7736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64013"/>
        <c:crosses val="autoZero"/>
        <c:auto val="1"/>
        <c:lblAlgn val="ctr"/>
        <c:lblOffset val="100"/>
        <c:noMultiLvlLbl val="0"/>
      </c:catAx>
      <c:valAx>
        <c:axId val="94764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6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25D-A8DF-4622-AB1F-F2BF6356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7C5-DB16-4C90-80FE-B270A4BB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14F-1A59-467E-B1D6-E7DA6E3F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A66-50DE-4710-8684-E8325074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CC6-716D-4BBF-8458-1AD46C34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6FD-5677-4712-8A2F-B68DCAD2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C77-41D4-4D6C-8D46-D902E858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2FC-8267-4D15-BD01-8CBDB0F9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F61-0E72-4BB3-A716-C5040B49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436-7BD7-49C7-A7BC-F7FB9182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3A9-B222-4F3F-BF9A-854679E0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621-7776-41EB-9885-E4A71AC8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1021D-F303-4624-BC07-20F09191E6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