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58703"/>
        <c:axId val="3935701"/>
      </c:barChart>
      <c:catAx>
        <c:axId val="80658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5701"/>
        <c:crosses val="autoZero"/>
        <c:auto val="1"/>
        <c:lblAlgn val="ctr"/>
        <c:lblOffset val="100"/>
        <c:noMultiLvlLbl val="0"/>
      </c:catAx>
      <c:valAx>
        <c:axId val="3935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8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839-ABB2-4C7B-9282-A8F079DA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81A-A0E9-49D4-A5C5-22C7117D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91F-4DA4-43F5-A248-E6A7690C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D4A-FED7-477A-BCF9-EE3B3B7A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871-00CC-4088-87A1-F0011366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639-3363-4113-9BB6-9EA21A41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07A-67CE-468C-ACD2-D94006EB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C56-A129-40C3-ACCC-4A866E21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6E0-9A9F-4CE2-B098-1C2B9FF7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7B2-F706-4172-85B9-588B3B18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897-32B7-42C7-B780-EE37E08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C0F-CC8F-4C7C-AF40-BC4CE203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728F3-03BF-488C-B969-3D5038D8DA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