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79677"/>
        <c:axId val="34963340"/>
      </c:barChart>
      <c:catAx>
        <c:axId val="34179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63340"/>
        <c:crosses val="autoZero"/>
        <c:auto val="1"/>
        <c:lblAlgn val="ctr"/>
        <c:lblOffset val="100"/>
        <c:noMultiLvlLbl val="0"/>
      </c:catAx>
      <c:valAx>
        <c:axId val="34963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79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366-1FEE-4A6F-966E-E030ADEA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954-7BC1-438E-B265-BA77AF0C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A55-B012-4476-A5AF-B91A3412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E68-CBC8-45D5-979B-B6CEB45E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320-3CC8-4398-B91B-D47606DF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64E-9800-4C8B-BAFB-8EEDCA1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1F6-7D0D-41BD-A76C-F510E10C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F22-7899-4EB9-BDA7-03BA9FDF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AFA-C88C-4C06-8EF1-DC9CCD57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5C0-91A5-42EB-AF25-762190FB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B11-79F1-4249-873A-712F040C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3C6-A7AD-4097-85C3-62EAD133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2A808-F8D8-4F95-B147-E5C7593339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