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50263"/>
        <c:axId val="17659769"/>
      </c:barChart>
      <c:catAx>
        <c:axId val="33450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59769"/>
        <c:crosses val="autoZero"/>
        <c:auto val="1"/>
        <c:lblAlgn val="ctr"/>
        <c:lblOffset val="100"/>
        <c:noMultiLvlLbl val="0"/>
      </c:catAx>
      <c:valAx>
        <c:axId val="17659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50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82F-350A-4E09-A8EA-A1285A86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73F-803D-44BB-B7BA-1C7EB59B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AA4-F3B5-437F-8E44-FBEDAE1D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A61-80F4-4CBC-8739-E7A39A28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8F0-8519-4AA1-B06A-3594B065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1A6-DE77-4E47-B26D-704DCEBC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8E4-541D-4BEC-8924-563EBEAC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118-6648-4C84-9641-3C82136C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01F-FEFE-49B5-9555-785D16D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E07-4CAF-4B19-8ADA-F3541F14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9D4-88B5-44F9-892D-CFF31F5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335-32C1-4374-A008-FAE3827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0207A-D935-4601-A527-A90503C1A0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