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961778"/>
        <c:axId val="25631301"/>
      </c:barChart>
      <c:catAx>
        <c:axId val="759617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31301"/>
        <c:crosses val="autoZero"/>
        <c:auto val="1"/>
        <c:lblAlgn val="ctr"/>
        <c:lblOffset val="100"/>
        <c:noMultiLvlLbl val="0"/>
      </c:catAx>
      <c:valAx>
        <c:axId val="256313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617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2A63-4736-4642-A98B-F6558BE6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FB91-0C4C-4D10-B865-D493E233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C530-2752-446A-ADA0-7B346FE6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1374-D045-4E5A-BC76-A85EE700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A42B-645D-4F68-858D-FA5D9246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A712-71D2-4714-8822-006F53EE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9266-965F-4251-AF8B-0AE0B64D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688B-E7FD-49D8-A639-AB97FDDE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D541-5286-40A8-93A2-BA93A642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3795-2D1D-44B3-9718-3DFE16BD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917-0A8E-4D6D-B3DE-0545AD9F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6078-F5AD-40E8-AE10-F0A3EB71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36873-EE75-4BDB-B554-1CB371028B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