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37267"/>
        <c:axId val="66069918"/>
      </c:barChart>
      <c:catAx>
        <c:axId val="93837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69918"/>
        <c:crosses val="autoZero"/>
        <c:auto val="1"/>
        <c:lblAlgn val="ctr"/>
        <c:lblOffset val="100"/>
        <c:noMultiLvlLbl val="0"/>
      </c:catAx>
      <c:valAx>
        <c:axId val="66069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37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7CA-DCF6-4AC1-A153-17DA85EE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E49-288A-49E1-91B8-51F07A2A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01A-A236-40A2-9E0F-A136DD1B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CA2-BB87-4181-BD4E-EA5C5802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2EC-E970-4EAD-A76B-1807CC13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393-1BE9-4CB7-9388-51ACCBA9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16B-9034-4CFE-B7DA-5CAD7E7C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3F1-542D-42B1-B70A-86892FBF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193-048A-40FB-87D6-31A5DF6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281-9D6A-42BA-9311-00BB2FF8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61F-BAF9-438C-83E3-B532D17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BB0-6806-42FB-AA90-2E540465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CC816-4065-45C4-91FC-32F989ACF7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