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77086"/>
        <c:axId val="34467430"/>
      </c:barChart>
      <c:catAx>
        <c:axId val="55477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67430"/>
        <c:crosses val="autoZero"/>
        <c:auto val="1"/>
        <c:lblAlgn val="ctr"/>
        <c:lblOffset val="100"/>
        <c:noMultiLvlLbl val="0"/>
      </c:catAx>
      <c:valAx>
        <c:axId val="34467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77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BB1-8D20-4AE4-BEB9-BE248D52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5B1-8C76-40FD-9D3F-E0044336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EF7-3802-48C5-88EB-BB8916E7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E82-235A-4C9B-A3EC-359450F2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7A4-A472-4375-B64E-54A8C571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B09F-606A-465D-A1A4-F8578A4A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1DC-D5C0-4AAC-9682-BADA8AA0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06E-6B68-44F2-A229-8B515350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2EE-0978-4BBE-8A65-318DFBD0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B08-2BBB-4229-AAAB-7D029F0C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1DD-4776-4CDE-A6FA-0B2108DB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7AA-55D5-4F83-AD89-B82B4854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75AD2-F34D-43D5-873A-232B388842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