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1757"/>
        <c:axId val="81232694"/>
      </c:barChart>
      <c:catAx>
        <c:axId val="9921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32694"/>
        <c:crosses val="autoZero"/>
        <c:auto val="1"/>
        <c:lblAlgn val="ctr"/>
        <c:lblOffset val="100"/>
        <c:noMultiLvlLbl val="0"/>
      </c:catAx>
      <c:valAx>
        <c:axId val="81232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1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880-4B65-4B20-827A-60F3B0CB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9CD-9305-4F10-B78B-187C5ED6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0B8-F7E9-4C4D-AEB1-F627B815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AD7-A818-432D-9EAF-2648C051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D68-E8F1-4A8B-BC78-20E7A651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A85-A144-406C-80BC-911E4E26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EB1-5899-4524-8949-32F5BD3C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EC3-DA6F-4812-AEF6-F1F5B447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D26-198A-4694-9758-25956CC7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0E4-516B-48C1-825C-43A6A002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028-8E45-49FC-83B9-597FEA9F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2A4-FC9D-408A-BA17-A5EED30F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A888A-5159-453B-9CEC-340A829852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