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1ED1A9-2510-4248-BAE4-C6B59B97D1C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46016A-E0A2-4CEE-A037-A595228B8F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6694A9-F91D-41F8-BCF2-01591D5123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3AC3BB-F6D4-4AB8-9B80-72A6FBE30E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2356D0-C658-4258-92E2-25A6549096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397A01-2A8F-448D-BCE8-B93AC44081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DEA8FE-A32B-46F3-A1B9-1CB545FE30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FC8FAA-8AA4-4478-942C-607ED0E220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D4C19C-A83F-4E55-B10B-F7FCAF6AFB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05C667-D11E-421C-8649-4CCDC07A4C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C26A21-743E-459C-A17B-0509F772EC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72676E-E385-4F0B-960C-AF7B9AB100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D87261-412F-47BB-A258-56CFA50C381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6FC34F-4FCE-4AE3-8940-22F48CDB37AE}" type="datetime3">
              <a:rPr b="0" lang="en-US" sz="1400" spc="-1" strike="noStrike">
                <a:solidFill>
                  <a:srgbClr val="ffffff"/>
                </a:solidFill>
                <a:latin typeface="Times New Roman"/>
              </a:rPr>
              <a:t>July 30,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B1C129-6621-48C5-8306-EAA093B568C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B306F412-7B19-416A-96CA-135F707DA7D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3F097590-0305-497D-BDDB-F3A5B833782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9D71C33D-CB64-438F-9671-B27D39B0426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FB2F3AFE-23BF-42DB-9483-D7EEC2DC26B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AC038193-7768-41E2-AD83-5D254284198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3751C83B-FDFB-43D8-88FF-ECC80DCD4739}"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7CAF0D70-3F84-4346-BB00-20FFC1948720}"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1FB2BD98-C42B-41D0-ABA1-B93DB0E5E8A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39C55600-C841-407D-B383-F0AF4B8409E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2495D74A-D05A-4D6E-AFAA-3BCCA1F020F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92B13191-F484-43FF-B859-9F222871837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F73A7130-A4BA-4686-A146-75EAB39F8F2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DCB430E2-F1B3-42BF-B8B8-0F3EF1DDD8B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A58DF753-818C-4FCB-96AB-4992B80A699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